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93500-450E-4841-8222-1B686BBD3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16471-EE34-4F94-BC78-608A91B03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FDFD5-24C5-4151-B140-FE181CBFA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58618-1443-4D9A-B923-E581EB7C4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0D619-442B-412F-921E-9D1F5925A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A3EDD-FDB2-4A84-9E7A-1D7D29038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2C928-75F8-4211-8486-3392B6700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24F01-9344-4F42-BF68-18E12D50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C35B6-93EC-4845-BAFB-22ABAB3A5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BF45-920A-405F-B461-140CC68A4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EBD6-61B4-47AD-A0BF-06D6CC0C4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8AE78-B40D-4035-9C1B-123B1D859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C8CD-8D99-450B-87E7-D66B102E0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www.randomhouse.com.au/authordatabaselarge/Herrick,%2520Steven.jpg&amp;imgrefurl=http://www.randomhouse.com.au/Author/Herrick,%2520Steven/&amp;usg=__cGN9zd8631TQRA9oA25J5STr-cQ=&amp;h=1196&amp;w=1002&amp;sz=235&amp;hl=en&amp;start=0&amp;sig2=XTMIZY3wZXia4mcdifz12w&amp;zoom=1&amp;tbnid=fY583OFgUz-yDM:&amp;tbnh=122&amp;tbnw=99&amp;ei=VHL9TNfGJpKinQfc6pnJCg&amp;prev=/images%3Fq%3Dsteven%2Bherrick%26hl%3Den%26safe%3Dactive%26biw%3D1024%26bih%3D496%26gbv%3D2%26tbs%3Disch:1&amp;itbs=1&amp;iact=hc&amp;vpx=557&amp;vpy=43&amp;dur=2038&amp;hovh=245&amp;hovw=205&amp;tx=82&amp;ty=131&amp;oei=VHL9TNfGJpKinQfc6pnJCg&amp;esq=1&amp;page=1&amp;ndsp=20&amp;ved=1t:429,r:3,s:0"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oholism in Australia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hristine Stephan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on to the Book!</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t>
            </a:r>
            <a:r>
              <a:rPr b="0" i="1" lang="en-US" sz="3200" spc="-1" strike="noStrike">
                <a:solidFill>
                  <a:srgbClr val="000000"/>
                </a:solidFill>
                <a:latin typeface="Times New Roman"/>
              </a:rPr>
              <a:t> The Simple Gift</a:t>
            </a:r>
            <a:r>
              <a:rPr b="0" lang="en-US" sz="3200" spc="-1" strike="noStrike">
                <a:solidFill>
                  <a:srgbClr val="000000"/>
                </a:solidFill>
                <a:latin typeface="Times New Roman"/>
              </a:rPr>
              <a:t> by Steven Herrick Billy's father is an alcoholic. This is one of the main reasons Billy runs away from home, he hates the way his father acts when he has alcohol in his system. </a:t>
            </a:r>
            <a:endParaRPr b="0" lang="en-US" sz="3200" spc="-1" strike="noStrike">
              <a:solidFill>
                <a:srgbClr val="000000"/>
              </a:solidFill>
              <a:latin typeface="Times New Roman"/>
            </a:endParaRPr>
          </a:p>
        </p:txBody>
      </p:sp>
      <p:pic>
        <p:nvPicPr>
          <p:cNvPr id="45" name="Picture 4" descr=""/>
          <p:cNvPicPr/>
          <p:nvPr/>
        </p:nvPicPr>
        <p:blipFill>
          <a:blip r:embed="rId1"/>
          <a:stretch/>
        </p:blipFill>
        <p:spPr>
          <a:xfrm>
            <a:off x="5410080" y="3962520"/>
            <a:ext cx="2057400" cy="2895480"/>
          </a:xfrm>
          <a:prstGeom prst="rect">
            <a:avLst/>
          </a:prstGeom>
          <a:ln w="0">
            <a:noFill/>
          </a:ln>
          <a:effectLst>
            <a:outerShdw dist="50760" dir="5400000" blurRad="0" rotWithShape="0">
              <a:srgbClr val="00000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it?</a:t>
            </a:r>
            <a:endParaRPr b="0" lang="en-US" sz="4400" spc="-1" strike="noStrike">
              <a:solidFill>
                <a:srgbClr val="000000"/>
              </a:solidFill>
              <a:latin typeface="Times New Roman"/>
            </a:endParaRPr>
          </a:p>
        </p:txBody>
      </p:sp>
      <p:sp>
        <p:nvSpPr>
          <p:cNvPr id="47"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coholism is a chronic disorder which means a person is dependent on alcohol. It is also the excessive use of alcoholic beverages, and when the alcohol consumption is reduced it causes withdrawal sympto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vy drinking in Australia is a common problem. Alcohol in Australia has been served as a food and a source of nutrition. The diets of the19th century were very restricted and there wasn't much else to choose from. Alcohol was also seen as a alternative to water, or to anything that was water-based, because of problems of pol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people learned that alcohol can cause big problems. There have been many changes in the meanings of alcohol and its place in the Australian culture. Although we still disapprove of the levels of alcohol consumption in our society, compared to earlier times, they have declined. Another change is that the people have learned you can drink in moderation. Also, if you drink, it doesn’t mean you have to get drun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e years there have been many different meanings of alcohol. In Australia and elsewhere wine, brandy, beer and stout have been seen as good dietary supplements. Alcohol was once seen as a good healthy food. Nursing mothers were being encouraged to drink stout because there was a popular belief that it would help with the production of breast milk. Historically alcohol has been used as a beverage, food,  medicine and a drug. It has been consumed as a sacrament, a toast, a sedative, a thirst-quencher, and a symbol of sophistic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the Autho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ssed with soccer from 8-15 years o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n wanted to have a life of just soccer, so he failed 1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plays for an all aged soccer team in the win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wife Cathie is a belly dancer.</a:t>
            </a:r>
            <a:r>
              <a:rPr b="0" lang="en-US" sz="3200" spc="-1" strike="noStrike" u="sng">
                <a:solidFill>
                  <a:srgbClr val="ccccff"/>
                </a:solidFill>
                <a:uFillTx/>
                <a:latin typeface="Times New Roman"/>
                <a:hlinkClick r:id="rId1"/>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has two boys, Jack and Jo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Picture 4" descr=""/>
          <p:cNvPicPr/>
          <p:nvPr/>
        </p:nvPicPr>
        <p:blipFill>
          <a:blip r:embed="rId2"/>
          <a:stretch/>
        </p:blipFill>
        <p:spPr>
          <a:xfrm>
            <a:off x="6858000" y="4191120"/>
            <a:ext cx="2079720" cy="24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b9"/>
                </a:solidFill>
                <a:latin typeface="Times New Roman"/>
              </a:rPr>
              <a:t>http://www.dulwichcentre.com.au/alcohol-in-australia.html</a:t>
            </a:r>
            <a:endParaRPr b="0" lang="en-US" sz="3200" spc="-1" strike="noStrike">
              <a:solidFill>
                <a:srgbClr val="000000"/>
              </a:solidFill>
              <a:latin typeface="Times New Roman"/>
            </a:endParaRPr>
          </a:p>
          <a:p>
            <a:pPr marL="335880" indent="-335880">
              <a:spcBef>
                <a:spcPts val="7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b9"/>
                </a:solidFill>
                <a:latin typeface="Times New Roman"/>
              </a:rPr>
              <a:t>http://www.yabookscentral.com/cfusion/index.cfm?fuseAction=authors.bio&amp;author_id=210&amp;bio_id=23</a:t>
            </a:r>
            <a:endParaRPr b="0" lang="en-US" sz="3200" spc="-1" strike="noStrike">
              <a:solidFill>
                <a:srgbClr val="000000"/>
              </a:solidFill>
              <a:latin typeface="Times New Roman"/>
            </a:endParaRPr>
          </a:p>
          <a:p>
            <a:pPr marL="335880" indent="-335880">
              <a:spcBef>
                <a:spcPts val="7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b9"/>
                </a:solidFill>
                <a:latin typeface="Times New Roman"/>
              </a:rPr>
              <a:t>http://www.safemenopausesolutions.com/alcoholism-facts.html</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23:06:27Z</dcterms:created>
  <dc:creator>954858</dc:creator>
  <dc:description/>
  <dc:language>en-US</dc:language>
  <cp:lastModifiedBy>Owner</cp:lastModifiedBy>
  <dcterms:modified xsi:type="dcterms:W3CDTF">2010-12-08T02:10:19Z</dcterms:modified>
  <cp:revision>6</cp:revision>
  <dc:subject/>
  <dc:title>Alcoholism in Australia </dc:title>
</cp:coreProperties>
</file>